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4C3-30A5-4233-8DF5-F61AD0E9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BC2-E398-47AA-8788-DCC67A39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54F8-2DE6-4DEB-ABE9-10C92E37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C1B-C4CC-4A0E-BB8C-34FF4C38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5D5-E0F1-403B-A35C-C3F63542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BAE-ACA1-4794-B80B-FA56CFCE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CAF-334F-4B3F-997B-B00B2B88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09F-8FB1-42DF-AF52-E7DC9EE8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381-2B88-4BFC-8366-769115F5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B8C-E646-4077-8E18-6DC99E8B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CC48-B693-4F3E-81CF-16095586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B1C-01A7-4688-95F4-8D8B7284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1BAB-0930-4524-8B5F-86D4E78A9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madeinoz.com/800pxd-Flag_of_Australia.svg.png&amp;imgrefurl=http://www.madeinoz.com/flag.html&amp;h=400&amp;w=800&amp;sz=17&amp;hl=en&amp;start=11&amp;um=1&amp;tbnid=vgIgsEx9jzBc_M:&amp;tbnh=72&amp;tbnw=143&amp;prev=/images%3Fq%3Daustralian%2Bflag%26um%3D1%26hl%3Den%26safe%3Dstrict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.au/imgres?imgurl=http://undergrowth.org/system/files/images/aboriginal-map.preview.jpg&amp;imgrefurl=http://undergrowth.org/map_of_gondwana%3FPHPSESSID%3D72367efd3a0b52769ef77d98f007531e&amp;h=480&amp;w=640&amp;sz=44&amp;hl=en&amp;start=123&amp;um=1&amp;tbnid=qDBdCrD025SfWM:&amp;tbnh=103&amp;tbnw=137&amp;prev=/images%3Fq%3Daboriginal%2Bflag%2Baustralia%26start%3D120%26ndsp%3D20%26um%3D1%26hl%3Den%26safe%3Dstrict%26sa%3DN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.au/imgres?imgurl=http://virtualmentor.ama-assn.org/img-old/aboriginalflag.gif&amp;imgrefurl=http://virtualmentor.ama-assn.org/2000/08/imhl1-0008.html&amp;h=86&amp;w=130&amp;sz=2&amp;hl=en&amp;start=164&amp;um=1&amp;tbnid=MzIaN2aIq4blCM:&amp;tbnh=60&amp;tbnw=91&amp;prev=/images%3Fq%3Daboriginal%2Bflag%2Baustralia%26start%3D160%26ndsp%3D20%26um%3D1%26hl%3Den%26safe%3Dstrict%26sa%3DN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aboriginalart.org.au/images/turtle%2520large.jpg&amp;imgrefurl=http://www.aboriginalart.org.au/&amp;h=756&amp;w=899&amp;sz=112&amp;hl=en&amp;start=20&amp;um=1&amp;tbnid=a8NIHz_afmFjZM:&amp;tbnh=123&amp;tbnw=146&amp;prev=/images%3Fq%3Daboriginal%2Bart%2Bwork%26um%3D1%26hl%3Den%26safe%3Dstrict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bac.qld.edu.au/5B/images/art4.jpg&amp;imgrefurl=http://www.bac.qld.edu.au/5B/internetEggs1.htm&amp;h=272&amp;w=394&amp;sz=56&amp;hl=en&amp;start=14&amp;um=1&amp;tbnid=oh7PuMrVYIjG-M:&amp;tbnh=86&amp;tbnw=124&amp;prev=/images%3Fq%3Daboriginal%2Bart%2Bwork%26um%3D1%26hl%3Den%26safe%3Dstrict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cairnsunlimited.com/images/d/aboriginal_art.jpg&amp;imgrefurl=http://www.cairnsunlimited.com/aboriginalculture.htm&amp;h=327&amp;w=500&amp;sz=77&amp;hl=en&amp;start=14&amp;um=1&amp;tbnid=A6hJOftFAoCyVM:&amp;tbnh=85&amp;tbnw=130&amp;prev=/images%3Fq%3Daboriginal%2Bart%2B%26um%3D1%26hl%3Den%26safe%3Dstrict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m.au/imgres?imgurl=http://lacsartroom.files.wordpress.com/2006/10/p1010003_1.jpg&amp;imgrefurl=http://lacsartroom.wordpress.com/2006/10/&amp;h=480&amp;w=598&amp;sz=180&amp;hl=en&amp;start=14&amp;tbnid=15EGC_ikI5ALrM:&amp;tbnh=108&amp;tbnw=135&amp;prev=/images%3Fq%3Daboriginal%2Bpaintings%26gbv%3D2%26hl%3Den%26safe%3Dstrict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.au/imgres?imgurl=http://lacsartroom.files.wordpress.com/2006/10/p1010001_1.jpg&amp;imgrefurl=http://lacsartroom.wordpress.com/2006/10/&amp;h=480&amp;w=618&amp;sz=182&amp;hl=en&amp;start=15&amp;tbnid=JxRbBE_zsYaDZM:&amp;tbnh=106&amp;tbnw=136&amp;prev=/images%3Fq%3Daboriginal%2Bpaintings%26gbv%3D2%26hl%3Den%26safe%3Dstrict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m.au/imgres?imgurl=http://www.theamericanmind.com/mt-test/archives/didgeridoo1.jpg&amp;imgrefurl=http://www.theamericanmind.com/mt-test/archives/2006_03.html&amp;h=746&amp;w=532&amp;sz=109&amp;hl=en&amp;start=6&amp;tbnid=z6v3jLywf7r6LM:&amp;tbnh=141&amp;tbnw=101&amp;prev=/images%3Fq%3Ddidgeridoo%26gbv%3D2%26hl%3Den%26safe%3Dstrict%26sa%3DX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.au/imgres?imgurl=http://statravelers.com/files/submitted_photos/uluru_preview.jpg&amp;imgrefurl=http://statravelers.com/photos/view/14556&amp;h=420&amp;w=560&amp;sz=24&amp;hl=en&amp;start=9&amp;tbnid=6oswn-XsMOkOEM:&amp;tbnh=100&amp;tbnw=133&amp;prev=/images%3Fq%3Duluru%26gbv%3D2%26hl%3Den%26safe%3Dstrict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1197000"/>
            <a:ext cx="8208720" cy="720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82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Papyrus"/>
              </a:rPr>
              <a:t>Citizenship Referendum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Papyrus"/>
              <a:ea typeface="Papyrus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260280"/>
            <a:ext cx="1871640" cy="1032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492280"/>
            <a:ext cx="3168720" cy="2382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260280"/>
            <a:ext cx="1728720" cy="1139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27640" y="5589720"/>
            <a:ext cx="252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ency FB"/>
              </a:rPr>
              <a:t>By Lillianne &amp; Gu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47628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What is the Citizenship Referendum? And when wa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484280"/>
            <a:ext cx="53276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The white Australians gave the federal government power to make laws for aborig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Aboriginals would the have the right to vote, got to school, get a job and get marr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It was on the 29</a:t>
            </a:r>
            <a:r>
              <a:rPr b="1" lang="en-US" sz="2400" spc="-1" strike="noStrike" baseline="30000">
                <a:solidFill>
                  <a:srgbClr val="ffffff"/>
                </a:solidFill>
                <a:latin typeface="Bradley Hand ITC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of may, 196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260280"/>
            <a:ext cx="180000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68360" y="476280"/>
            <a:ext cx="41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gency FB"/>
              </a:rPr>
              <a:t>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206064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1916280"/>
            <a:ext cx="49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27280" y="1989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4046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What rights were the aborigines excluded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700280"/>
            <a:ext cx="29527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The Aborigines weren’t counted as Australian citiz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They weren’t allowed to v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They weren't allowed to get married without per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Half – cast children were taken away from their fami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333360"/>
            <a:ext cx="208764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260280"/>
            <a:ext cx="1770120" cy="1298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3333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When was the FCAATSI formed? What does it stand for, who were the leaders and what were their ro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989000"/>
            <a:ext cx="7993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The FCAATSI was formed in 195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FCAATSI stands for the Federal Council for the Advancement of Aborigines and Torres Straight Islan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The leaders were Faith Bandler, Chika Dixon and Kath Wal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FCAATSI played an important role in the campaign for a ‘yes’ v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80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260280"/>
            <a:ext cx="8642160" cy="720720"/>
          </a:xfrm>
          <a:prstGeom prst="rect">
            <a:avLst/>
          </a:prstGeom>
          <a:solidFill>
            <a:srgbClr val="ffffff"/>
          </a:solidFill>
          <a:ln cap="rnd" w="0">
            <a:solidFill>
              <a:srgbClr val="000000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any people voted yes? How many people voted 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3640" y="4653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5300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6021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BY Lillianne Koeniger AND Guled Moham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click to enlarge"/>
          <p:cNvPicPr/>
          <p:nvPr/>
        </p:nvPicPr>
        <p:blipFill>
          <a:blip r:embed="rId1"/>
          <a:stretch/>
        </p:blipFill>
        <p:spPr>
          <a:xfrm>
            <a:off x="6516720" y="189000"/>
            <a:ext cx="2441520" cy="3671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64000" y="476280"/>
            <a:ext cx="2087640" cy="1670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4724280"/>
            <a:ext cx="2663640" cy="1675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8360" y="404640"/>
            <a:ext cx="2216160" cy="309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4941720"/>
            <a:ext cx="2305080" cy="1733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3348000" y="4581360"/>
            <a:ext cx="21607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1:15:23Z</dcterms:created>
  <dc:creator>Reservoir District Secondary College</dc:creator>
  <dc:description/>
  <dc:language>en-US</dc:language>
  <cp:lastModifiedBy>Reservoir District Secondary College</cp:lastModifiedBy>
  <dcterms:modified xsi:type="dcterms:W3CDTF">2008-06-05T02:43:09Z</dcterms:modified>
  <cp:revision>5</cp:revision>
  <dc:subject/>
  <dc:title>Slide 1</dc:title>
</cp:coreProperties>
</file>